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3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25.wmf" ContentType="image/x-wmf"/>
  <Override PartName="/ppt/media/image24.wmf" ContentType="image/x-wmf"/>
  <Override PartName="/ppt/media/image21.wmf" ContentType="image/x-wmf"/>
  <Override PartName="/ppt/media/image19.jpeg" ContentType="image/jpeg"/>
  <Override PartName="/ppt/media/image22.jpeg" ContentType="image/jpeg"/>
  <Override PartName="/ppt/media/image1.jpeg" ContentType="image/jpeg"/>
  <Override PartName="/ppt/media/image18.wmf" ContentType="image/x-wmf"/>
  <Override PartName="/ppt/media/image15.gif" ContentType="image/gif"/>
  <Override PartName="/ppt/media/image17.wmf" ContentType="image/x-wmf"/>
  <Override PartName="/ppt/media/image16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1B4-952F-40A4-BADE-326AFE90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55C-4BF5-4E67-B5D3-E9B9E17F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6A8-0DE7-4C18-BE07-F28B37E2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3CC-230D-40EC-8518-BABE27CA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B25F-6891-41F2-B117-49B127FA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D113-C0DE-45F3-A28A-7DD68066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8666-0102-418F-9C96-AEC0D754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1DC1-B1A8-4E3A-A2C8-24A6622C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3354-8367-4962-A97E-B5B3A12A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CE49-C75F-41C4-8967-FE677C3A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9CE3-B544-46E7-AC4F-AB57C72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E76-02D2-4F6B-A9C4-AAC19569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ED76-E3DE-4C7B-A1AF-850454D8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FE30-5254-4928-A590-23B3FD8B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4BEA-7FF9-4D4F-845F-997083E5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1E7B-CCA1-472A-936E-C8E48356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407B-837A-4591-9FE0-E3084272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B3BF-9AE0-4DCB-9FC5-161CE131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C519-704A-4782-9A6E-D1E0B6FE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FB4B-E344-43E9-A1C7-C67B91B0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BB567-0757-46AD-8328-EEF043FC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B3DC-837A-4FBB-A2F6-BBDC51E7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0AD-26A2-4E2B-B38A-E368147D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8E4F1-6797-44B7-9584-049A4403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67F4-B2D4-46C9-9E8D-A6C1512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7B8E-A65E-4E28-B365-56ADF81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F4CA-B557-4E71-91EA-316EC415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A51C-7DBB-4EEA-8969-CC432A1A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8150-2869-451B-9C78-7F937ADC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3AAD-C9AC-47CA-9675-4CC76DD1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100D-51DF-4D81-B93B-42BCD32D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4F9B-C675-4DF2-ADBC-6384DB99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E47A-9C9A-4392-B094-F7F0149A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F5C-806E-4051-8EE6-7A629E81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94507-122F-4EAC-B533-AB7CA97B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E1A5-5B96-4064-BB19-148CA17A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6A985-B9D9-41EA-BC5F-97EE8946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8DB3D-77A5-481A-B09B-DBE33AED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C1B5-969B-45F3-B86F-D5BFB01A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F67B-6B8E-4996-8E08-5567235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6B606-8E23-469C-B673-00FE9E28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9A00-9E3D-40D6-9F1E-6ABB9EA7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A0985-21A1-482A-AE89-CFD8E0DB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E22-1018-424F-BD2E-CF3350D1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322-18C7-436B-BB28-7ED960A3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DA7-87A5-44A7-87F3-8F3150E4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7D4-F5AE-48A9-865A-9B1F7D93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EC9-F70A-43A5-A1F1-F454F9A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AA84-8840-4018-A884-DB16FD7E61B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A78F-39CC-4259-A63F-17F53C4D02C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C717-AE04-400F-9416-2C1D78CADF2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EDD0-5C50-4526-A27C-868529BC04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S I  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1371600" y="41148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ow have religious and economic events changed the world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onstantia"/>
              </a:rPr>
              <a:t>What do you already know about Colonial Americ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escribe how religious and economic events have shaped colonial Americ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Identify specific colonies that were formed for religious reas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Identify specific colonies that were formed for economic rea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C:\Documents and Settings\ECPS-User\Local Settings\Temporary Internet Files\Content.IE5\AN5J0SYW\MC900193988[1].wmf"/>
          <p:cNvPicPr/>
          <p:nvPr/>
        </p:nvPicPr>
        <p:blipFill>
          <a:blip r:embed="rId1"/>
          <a:stretch/>
        </p:blipFill>
        <p:spPr>
          <a:xfrm>
            <a:off x="6400800" y="2590920"/>
            <a:ext cx="2944800" cy="3921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Documents and Settings\ECPS-User\Local Settings\Temporary Internet Files\Content.IE5\AN5J0SYW\MC900295296[1].wmf"/>
          <p:cNvPicPr/>
          <p:nvPr/>
        </p:nvPicPr>
        <p:blipFill>
          <a:blip r:embed="rId2"/>
          <a:stretch/>
        </p:blipFill>
        <p:spPr>
          <a:xfrm>
            <a:off x="2286000" y="3733920"/>
            <a:ext cx="2286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lonies formed for religious reas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Plymou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Massachusetts B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Pennsylvan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C:\Documents and Settings\ECPS-User\Local Settings\Temporary Internet Files\Content.IE5\AN5J0SYW\MC900383192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1657080" cy="1625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Documents and Settings\ECPS-User\Local Settings\Temporary Internet Files\Content.IE5\6B01K6VK\MC900013523[1].wmf"/>
          <p:cNvPicPr/>
          <p:nvPr/>
        </p:nvPicPr>
        <p:blipFill>
          <a:blip r:embed="rId2"/>
          <a:stretch/>
        </p:blipFill>
        <p:spPr>
          <a:xfrm>
            <a:off x="1828800" y="3962520"/>
            <a:ext cx="1219320" cy="635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ECPS-User\Local Settings\Temporary Internet Files\Content.IE5\PAMHR9RU\MC900156891[1].wmf"/>
          <p:cNvPicPr/>
          <p:nvPr/>
        </p:nvPicPr>
        <p:blipFill>
          <a:blip r:embed="rId3"/>
          <a:stretch/>
        </p:blipFill>
        <p:spPr>
          <a:xfrm>
            <a:off x="2819520" y="4876920"/>
            <a:ext cx="182088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lonies formed for economic reas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Roanoke Isl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Jamest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eorg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C:\Documents and Settings\ECPS-User\Local Settings\Temporary Internet Files\Content.IE5\VQ2LI6HE\MC900391034[1].wmf"/>
          <p:cNvPicPr/>
          <p:nvPr/>
        </p:nvPicPr>
        <p:blipFill>
          <a:blip r:embed="rId1"/>
          <a:stretch/>
        </p:blipFill>
        <p:spPr>
          <a:xfrm>
            <a:off x="1752480" y="5153040"/>
            <a:ext cx="990720" cy="120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Documents and Settings\ECPS-User\Local Settings\Temporary Internet Files\Content.IE5\VQ2LI6HE\MC900197526[1].wmf"/>
          <p:cNvPicPr/>
          <p:nvPr/>
        </p:nvPicPr>
        <p:blipFill>
          <a:blip r:embed="rId2"/>
          <a:stretch/>
        </p:blipFill>
        <p:spPr>
          <a:xfrm>
            <a:off x="2666880" y="3429000"/>
            <a:ext cx="1524240" cy="140976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5"/>
          <p:cNvSpPr/>
          <p:nvPr/>
        </p:nvSpPr>
        <p:spPr>
          <a:xfrm>
            <a:off x="155520" y="-525600"/>
            <a:ext cx="11145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155520" y="-525600"/>
            <a:ext cx="11145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9" descr="C:\Documents and Settings\ECPS-User\Local Settings\Temporary Internet Files\Content.IE5\6B01K6VK\MC900383588[1].wmf"/>
          <p:cNvPicPr/>
          <p:nvPr/>
        </p:nvPicPr>
        <p:blipFill>
          <a:blip r:embed="rId3"/>
          <a:stretch/>
        </p:blipFill>
        <p:spPr>
          <a:xfrm>
            <a:off x="3657600" y="1709640"/>
            <a:ext cx="1143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in New Englan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eography and Clim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peci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depen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ocial/ Polit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ECPS-User\Local Settings\Temporary Internet Files\Content.IE5\VQ2LI6HE\MM900336468[1].gif"/>
          <p:cNvPicPr/>
          <p:nvPr/>
        </p:nvPicPr>
        <p:blipFill>
          <a:blip r:embed="rId1"/>
          <a:stretch/>
        </p:blipFill>
        <p:spPr>
          <a:xfrm>
            <a:off x="2514600" y="1908000"/>
            <a:ext cx="1066680" cy="787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Documents and Settings\ECPS-User\Local Settings\Temporary Internet Files\Content.IE5\6B01K6VK\MP900447885[1].jpg"/>
          <p:cNvPicPr/>
          <p:nvPr/>
        </p:nvPicPr>
        <p:blipFill>
          <a:blip r:embed="rId2"/>
          <a:stretch/>
        </p:blipFill>
        <p:spPr>
          <a:xfrm>
            <a:off x="4419720" y="1752480"/>
            <a:ext cx="914400" cy="1360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Documents and Settings\ECPS-User\Local Settings\Temporary Internet Files\Content.IE5\AN5J0SYW\MC900053446[1].wmf"/>
          <p:cNvPicPr/>
          <p:nvPr/>
        </p:nvPicPr>
        <p:blipFill>
          <a:blip r:embed="rId3"/>
          <a:stretch/>
        </p:blipFill>
        <p:spPr>
          <a:xfrm>
            <a:off x="3200400" y="3429000"/>
            <a:ext cx="13082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in the Mid-Atlantic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eography and Clim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peci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depen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ocial/ Polit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" descr="C:\Documents and Settings\ECPS-User\Local Settings\Temporary Internet Files\Content.IE5\AN5J0SYW\MC900441838[1].wmf"/>
          <p:cNvPicPr/>
          <p:nvPr/>
        </p:nvPicPr>
        <p:blipFill>
          <a:blip r:embed="rId1"/>
          <a:stretch/>
        </p:blipFill>
        <p:spPr>
          <a:xfrm>
            <a:off x="4495680" y="2286000"/>
            <a:ext cx="1822680" cy="1457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ECPS-User\Local Settings\Temporary Internet Files\Content.IE5\PAMHR9RU\MP900448688[1].jpg"/>
          <p:cNvPicPr/>
          <p:nvPr/>
        </p:nvPicPr>
        <p:blipFill>
          <a:blip r:embed="rId2"/>
          <a:stretch/>
        </p:blipFill>
        <p:spPr>
          <a:xfrm>
            <a:off x="6248520" y="3124080"/>
            <a:ext cx="1774800" cy="2667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ECPS-User\Local Settings\Temporary Internet Files\Content.IE5\AN5J0SYW\MP900444588[1].jpg"/>
          <p:cNvPicPr/>
          <p:nvPr/>
        </p:nvPicPr>
        <p:blipFill>
          <a:blip r:embed="rId3"/>
          <a:stretch/>
        </p:blipFill>
        <p:spPr>
          <a:xfrm>
            <a:off x="4267080" y="3962520"/>
            <a:ext cx="1625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in the Sou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eography and Clim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peci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depen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ocial/ Polit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1" descr="C:\Documents and Settings\ECPS-User\Local Settings\Temporary Internet Files\Content.IE5\6B01K6VK\MC900186290[1].wmf"/>
          <p:cNvPicPr/>
          <p:nvPr/>
        </p:nvPicPr>
        <p:blipFill>
          <a:blip r:embed="rId1"/>
          <a:stretch/>
        </p:blipFill>
        <p:spPr>
          <a:xfrm>
            <a:off x="5638680" y="2209680"/>
            <a:ext cx="1828800" cy="1555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ECPS-User\Local Settings\Temporary Internet Files\Content.IE5\PAMHR9RU\MP900403590[1].jpg"/>
          <p:cNvPicPr/>
          <p:nvPr/>
        </p:nvPicPr>
        <p:blipFill>
          <a:blip r:embed="rId2"/>
          <a:stretch/>
        </p:blipFill>
        <p:spPr>
          <a:xfrm>
            <a:off x="3886200" y="3962520"/>
            <a:ext cx="3543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ocial Groups of Colonial Americ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Large Landown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Farm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rtis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o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Free African Americ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Enslaved African Americans (Slav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" descr="C:\Documents and Settings\ECPS-User\Local Settings\Temporary Internet Files\Content.IE5\VQ2LI6HE\MM900284168[1].gif"/>
          <p:cNvPicPr/>
          <p:nvPr/>
        </p:nvPicPr>
        <p:blipFill>
          <a:blip r:embed="rId1"/>
          <a:stretch/>
        </p:blipFill>
        <p:spPr>
          <a:xfrm>
            <a:off x="4495680" y="2209680"/>
            <a:ext cx="1257480" cy="1209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ECPS-User\Local Settings\Temporary Internet Files\Content.IE5\PAMHR9RU\MC900128943[1].wmf"/>
          <p:cNvPicPr/>
          <p:nvPr/>
        </p:nvPicPr>
        <p:blipFill>
          <a:blip r:embed="rId2"/>
          <a:stretch/>
        </p:blipFill>
        <p:spPr>
          <a:xfrm>
            <a:off x="6172200" y="2362320"/>
            <a:ext cx="1684440" cy="1968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Documents and Settings\ECPS-User\Local Settings\Temporary Internet Files\Content.IE5\AN5J0SYW\MC900155026[1].wmf"/>
          <p:cNvPicPr/>
          <p:nvPr/>
        </p:nvPicPr>
        <p:blipFill>
          <a:blip r:embed="rId3"/>
          <a:stretch/>
        </p:blipFill>
        <p:spPr>
          <a:xfrm>
            <a:off x="5715000" y="4724280"/>
            <a:ext cx="182556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22:15:43Z</dcterms:created>
  <dc:creator>ECPS-User</dc:creator>
  <dc:description/>
  <dc:language>en-US</dc:language>
  <cp:lastModifiedBy>ECPS-User</cp:lastModifiedBy>
  <dcterms:modified xsi:type="dcterms:W3CDTF">2010-10-06T23:16:10Z</dcterms:modified>
  <cp:revision>7</cp:revision>
  <dc:subject/>
  <dc:title>Colonial America</dc:title>
</cp:coreProperties>
</file>